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WHOOSH.WAV" ContentType="audio/x-wav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100F-4B7F-4250-A68C-04DCFCE79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32D8-ED39-40ED-BC13-0032238F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19B3-3595-4E9D-B203-996AAF873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DFB1-E55B-45C4-B01F-74EE6444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CED21-C3D6-4660-B205-6E826F0AE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41209-A8CB-44DC-8553-8067F3EAA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F7FF-A662-4FBA-9990-AE507ADF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0986-DAEF-4E40-89B7-C28D1E8C1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4960-F0B8-476E-88B5-B7CCA8BD3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10C5A-0AE9-473C-A53F-B308EBCB4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BC7C-47F8-400F-BDD7-21C3C681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A9C8-A4DE-44CF-9AAF-579B1E04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3CEB-042F-4D84-8457-BCA9FE97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1A4F-6B2B-4A6C-AAEA-541A0A571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C9F5-2AAA-4B54-A1F2-C09FC114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44304-B980-4500-A707-9DCC8F1E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6361-2287-4B2E-81AB-0BA0FFC1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824-3FF5-41D2-AF7A-825EDD6E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E65E-0EF2-4AD3-9B68-354E9E99D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FA53-CA9F-4848-AC31-13F17CA86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BEC-7FB4-4F60-B9FE-B79B09E2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C29B-AD88-42C6-84C4-FCD9CAD8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FA0-F1A2-44CE-888B-7A1CAE904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3DD6-692C-467D-A14C-E751079D0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1905120"/>
                <a:gd name="textAreaBottom" fmla="*/ 1905480 h 1905120"/>
              </a:gdLst>
              <a:ahLst/>
              <a:rect l="textAreaLeft" t="textAreaTop" r="textAreaRight" b="textAreaBottom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5021E-15AF-45F8-9772-772FE044530F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3809880"/>
                <a:gd name="textAreaBottom" fmla="*/ 3810240 h 3809880"/>
              </a:gdLst>
              <a:ahLst/>
              <a:rect l="textAreaLeft" t="textAreaTop" r="textAreaRight" b="textAreaBottom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1311F-398D-47D3-90B9-94B9120CD5C0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31920" y="620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Gender in the Union</a:t>
            </a:r>
            <a:br>
              <a:rPr sz="4000"/>
            </a:b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DTU IND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1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3348000" y="2205000"/>
          <a:ext cx="5562720" cy="41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2205000"/>
                    <a:ext cx="5562720" cy="41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362320" y="1752480"/>
            <a:ext cx="6524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ONS HAVE SET UP COMMITTEES TO STRUGGLE FOR GEND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ENDER COMMITTEES OFTEN DO NOT HAVE REAL INFLUENCE IN UN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IMES THESE ARE JUST SEPARATE STRUCTURES OF WOMEN ON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DON’T HAVE REAL INFLUENCE IN EXECUTIVE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 MOST STRUCTURES THEY ARE NOT AT THE CORE OF THE WORK OF UN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IONISTS DO NOT SPEND ENOUGH TIME DEFINING THE STRUCTURE’S ROLE AIMS AND OBJECTIV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6" name="Object 5"/>
          <p:cNvGraphicFramePr/>
          <p:nvPr/>
        </p:nvGraphicFramePr>
        <p:xfrm>
          <a:off x="304920" y="914400"/>
          <a:ext cx="159696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159696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COMMITTEES OF GENDER EQUALIT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4995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UNIONS OFTEN SEPERATE EDUCATION,CAMPAIGNS AND ORGANISING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GENDER ISSUES ARE THOUGHT TO FALL UNDER EDUCATION(THROUGH AWARENESS RAISING WORKSHOP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THE UNION’S OVERALL POLITICAL AND ORGANISATIONAL PROGRAMME – NOT ONLY GENDER STRUCTURES SHOULD CONTRIBUTE TOWARDS MAKING MEMBERS AWARE OF GENDER ISS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GENDER STRUCTURES SHOULD BE SEEN AS PLACES TO STRATEGI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00"/>
                </a:solidFill>
                <a:latin typeface="Tahoma"/>
              </a:rPr>
              <a:t>THE LINK BETWEEN GENDER,EDUCATION AND CAMPAIG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ATTITUDES AND APPROACHES TO GEND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Y UNIONS MEMBERS ARE NOT COMMITTED TO MAKING UP GENDER ISSUE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IN SOME INSTANCES MALE COMRADES CONSCIOUSLY RESIST ATTEMPTS TO HAVE GENDER ISSUES BECOME PART OF THE BROADER CONCERNS OF THE UN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BARRIERS TO WOMEN’S FULL PARTICIPATION IN THE UNIO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66840" y="1844640"/>
            <a:ext cx="77724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RTNERS OF WOMEN WORKERS DO NOT WANT THEM TO ATTEND UNION MEET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 MEETINGS ARE CALL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’S ATTITUDES IN UN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EREOTYPES ABOUT GENDER 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NALISED OPPRE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XUAL HARASS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RANSFORMING GENDER RELATIO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6684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BUILDING ACTIVISTS GENDER STRUCTU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OLITICAL SUPPORT AND RESOURC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PROGRESSIVE THEOR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LEADING ROLE OF WOM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HE NEED FOR SEPARATE FORUMS FOR WOM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ELECTION OF WOMEN AS SHOPSTEWARDS AND LEAD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TAKING UP GENDER ISSUES IN COLLECTIVE BARGAINING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DEVELOPING CREATIVE ORGANISING METHODS FOR WOMEN LEADER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58920" y="1844280"/>
            <a:ext cx="778032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ims of the Discussion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promote gender equality and empowerment of wo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look at how to equip women with leadership skills in order to enable them to participate effectively in decision making structures of the u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highlight some challenges in trade union gender strugg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 explore the deepening of a gender conscious cadre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7280" y="1844640"/>
            <a:ext cx="777744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ZA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58560" y="1981080"/>
            <a:ext cx="74278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684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SETTING THE CONTEX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WHAT IS GENDE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GENDER REFERS TO THE DIFFERENT ROLES AND IDENTITIES THAT WE ARE GIVEN DEPENDING ON WHETHER WE ARE MALE OR FEMA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SE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Sex refers to the physical differences between men and w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POWER REL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Gender is not only about roles and expectations but also about the relationship between men and w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PATRIACHY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Patriarchy refers to the system of male domination over w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Subordination of women to male authority, in the family and the commun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Limited decision making power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Limitations on mo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Objectification of women as a form of proper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Violence, rape and the threat of viol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Sexual division of labour in which women are confined t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child rearing and personal services for adult males in the househo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Specific types of wage work related to the household role (cleaning, domestic work) low in status and p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Tahoma"/>
              </a:rPr>
              <a:t>Origin of the family, private property &amp; the stat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6480" y="1981080"/>
            <a:ext cx="726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Early societies were matrilineal and matriarch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According to Engels group marriage was the first form of fami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Women’s subsistence labour was a form of livelihood and pow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Male domination began with the emergence of private property in agricultural societies (development of farming led to a surplu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The existing sexual division of labour became an oppressive one as it became linked to status and trad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255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1" name="Object 4"/>
          <p:cNvGraphicFramePr/>
          <p:nvPr/>
        </p:nvGraphicFramePr>
        <p:xfrm>
          <a:off x="6659640" y="189000"/>
          <a:ext cx="2484360" cy="158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189000"/>
                    <a:ext cx="2484360" cy="15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MEN’S LABOUR POWE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MEN’S SEXUAL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OMEN’S MOBILIT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OPERTY AND ECONOMIC RESOURC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000000"/>
                </a:solidFill>
                <a:latin typeface="Tahoma"/>
              </a:rPr>
              <a:t>HOW WOMEN ARE CONTROLLED IN A PATRIARCHAL SYST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Reproductive Labou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7640" y="2276280"/>
            <a:ext cx="71312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Every day workers return to the workplace fit to work – rested, fed, clothed and nurtur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Whose labour is thi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ffffff"/>
                </a:solidFill>
                <a:latin typeface="Tahoma"/>
              </a:rPr>
              <a:t>Hidden household labour (mostly women’s labour) means capitalists can pay lower wages and maximise prof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paid reproductive labour has a strong class and racial dim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303280" cy="2035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80036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Household power relat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6920" y="1980720"/>
            <a:ext cx="785196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The family is an instrument of control and oppression of wo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Lenin condemned ‘domestic slavery’ and ‘humiliating subjugation’ of women in the househol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ZA" sz="2000" spc="-1" strike="noStrike">
                <a:solidFill>
                  <a:srgbClr val="ffffff"/>
                </a:solidFill>
                <a:latin typeface="Tahoma"/>
              </a:rPr>
              <a:t>Notwithstanding all the laws emancipating women, she continues to be a domestic slave, because petty housework crushes, strangles, stultifies and degrades her, chains her to the kitchen and the nursery…” (Lenin, 1919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Unequal power relations in househol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Children internalise conservative gender roles in the family and learn to conform to capit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The family becomes a shock absorber of the oppressive society– domestic violence, child abus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Tahoma"/>
              </a:rPr>
              <a:t>Families become isolated and reduced to units of consump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564000" y="1868400"/>
            <a:ext cx="558000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Tahoma"/>
              </a:rPr>
              <a:t>WOMEN’S LEADERSHIP IN TRADE UN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EN MOSTLY LEAD TRADE UN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MANY UNIONS USE MECHANISMS LIKE RESERVED SEATS,QUOTA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THIS IS THE SAME EVEN IN OUR UN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WOMEN HAVE TO ACCEPT THEIR POWER IF THEY ARE TO BECOME LEADE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2" name="Object 6"/>
          <p:cNvGraphicFramePr/>
          <p:nvPr/>
        </p:nvGraphicFramePr>
        <p:xfrm>
          <a:off x="250920" y="1268280"/>
          <a:ext cx="3224160" cy="37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68280"/>
                    <a:ext cx="3224160" cy="37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Tahoma"/>
              </a:rPr>
              <a:t>GENDER AND TRADE UNION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3T10:03:45Z</dcterms:created>
  <dc:creator>Naledi</dc:creator>
  <dc:description/>
  <dc:language>en-US</dc:language>
  <cp:lastModifiedBy>Dtweedie</cp:lastModifiedBy>
  <cp:lastPrinted>2002-04-11T06:49:33Z</cp:lastPrinted>
  <dcterms:modified xsi:type="dcterms:W3CDTF">2015-11-01T14:11:30Z</dcterms:modified>
  <cp:revision>64</cp:revision>
  <dc:subject/>
  <dc:title>COSATU CEC Political Discussion on Gender</dc:title>
</cp:coreProperties>
</file>